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4736-0389-4CD7-9718-277AD8878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F40E-86F7-481D-9DB9-3D4103E9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B654-3FBE-4619-9A08-1AA8656E4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E07F-EF6E-412E-A2CE-932F3C20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7CEF-7417-4CA6-A332-39F24F524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0926-9D18-4ECF-865B-E8A52BDE4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3117-15F0-4431-B170-685C2E54C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1DC6-4E82-4218-BDE4-BD6B4D917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D5D2-97D0-43F5-82FE-750E09B5E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BB86-2302-4BEF-9C84-740423A9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A5CB-A84D-40ED-9CC9-540F8B12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9F30-9F8C-4960-A7BC-306A670EF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0AF3-0ACB-457E-91E2-F8425ED39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2472-41AB-4FC9-ABC6-25415AC76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CE94-8912-49DB-B6BA-5E4CE19AE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57EA-3FB4-4A06-9189-67D6B15DC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42DF-FC13-49D9-A96A-6435C7243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96973-9296-4F9D-9E00-96CDC67EF9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998AA-690F-43A1-93BE-B6139E1EC0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4358-F4B1-4239-A5E5-8B884B2EA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C740-489D-4258-A18A-011902482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D751-1030-43A9-87F3-EDA01708A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2E69-7418-45AD-82EE-9560C312B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4173-7B89-4927-96E8-D8812A6A3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9F50-80FE-4F88-841B-E4A247598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C3E6-76A5-40F2-96D0-EA61F6460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DEC0255B-6F0B-4051-960F-6F49BD8B58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13D53EB2-B716-47DB-8F51-9F552E4D35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4038480" y="3946680"/>
            <a:ext cx="49532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s j’ai téléphoné chez toi. Je suis tomb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 une fill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ait très genti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2" descr=""/>
          <p:cNvPicPr/>
          <p:nvPr/>
        </p:nvPicPr>
        <p:blipFill>
          <a:blip r:embed="rId1"/>
          <a:stretch/>
        </p:blipFill>
        <p:spPr>
          <a:xfrm>
            <a:off x="762120" y="2171880"/>
            <a:ext cx="3276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F4EF7408-9450-4EC5-884B-A9D446F422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lative pronoun to represent the obje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reposition. Note that the preposition is retained and always precedes the relative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3191040"/>
          <a:ext cx="7010280" cy="146340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474920">
                <a:tc>
                  <a:txBody>
                    <a:bodyPr lIns="90000" rIns="900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e citron bio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c lequel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vais faire la sauce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t’s the organic lemon with which I am going to prepare the sau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a raiso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ur laquelle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suis ven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s is why (the reason for which) I ca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E6D78A39-4609-48BC-9AFC-A7C705D1E1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2514600" y="3662280"/>
            <a:ext cx="4114800" cy="152424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7"/>
          <p:cNvSpPr/>
          <p:nvPr/>
        </p:nvSpPr>
        <p:spPr>
          <a:xfrm>
            <a:off x="2514600" y="4643280"/>
            <a:ext cx="4114800" cy="10764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2514600" y="4195800"/>
            <a:ext cx="4114800" cy="76212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 for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qu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qu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quel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in gender and number with the objects they represent. Remember, too, that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ntractions may be 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743200" y="3733920"/>
          <a:ext cx="4114800" cy="1981080"/>
        </p:xfrm>
        <a:graphic>
          <a:graphicData uri="http://schemas.openxmlformats.org/drawingml/2006/table">
            <a:tbl>
              <a:tblPr/>
              <a:tblGrid>
                <a:gridCol w="1800360"/>
                <a:gridCol w="257040"/>
                <a:gridCol w="2057400"/>
              </a:tblGrid>
              <a:tr h="45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</a:t>
                      </a: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</a:t>
                      </a: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qu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quel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quell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que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quel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17604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quell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D39F0947-F0D8-4659-8106-9B037007CB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qu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es not refer to people. If the object of the preposition is human, use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g with the pre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3351240"/>
          <a:ext cx="7772400" cy="1206360"/>
        </p:xfrm>
        <a:graphic>
          <a:graphicData uri="http://schemas.openxmlformats.org/drawingml/2006/table">
            <a:tbl>
              <a:tblPr/>
              <a:tblGrid>
                <a:gridCol w="3429000"/>
                <a:gridCol w="716040"/>
                <a:gridCol w="3627360"/>
              </a:tblGrid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une relatio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 laqu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 peux compt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t’s a relationship I 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 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’est la femme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c qui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 très li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s is the woman with w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ul is very close-kn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07D5352E-20BC-42D6-ACF0-7895C7F026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relative pronoun refers to an unspecified antecedent,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do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ofte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2514600"/>
          <a:ext cx="9220320" cy="3772080"/>
        </p:xfrm>
        <a:graphic>
          <a:graphicData uri="http://schemas.openxmlformats.org/drawingml/2006/table">
            <a:tbl>
              <a:tblPr/>
              <a:tblGrid>
                <a:gridCol w="4965840"/>
                <a:gridCol w="4254480"/>
              </a:tblGrid>
              <a:tr h="379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roblèm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’inquiète, c’est le fossé des générations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roblem that worries me is the generation gap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viand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préfère, c’est la volai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eat that I prefer is poult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ingrédi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e a besoin, c’est un conservateu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ingredients that she needs is a preservat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286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qu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’inquiète, c’est le fossé des générations.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worries me is the generation gap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préfère, c’est la volail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I prefer is poult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 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e a besoin, c’est un conservateu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she needs is a preservat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B4EB9E43-6224-4346-9E87-9EFE8414AD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pronouns are used to link two ideas containing a common element into a single, complex sentence, thereby eliminating the repetition of the common element. The relative pronoun to use is determined by the grammatical function of the noun it replaces,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6BBF8CF9-6BE0-4CAA-AEB2-66AD8C05FE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ntences below, the common element, or antecedent,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nf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nf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ubject of the second sentence,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3657600"/>
          <a:ext cx="8458200" cy="2133720"/>
        </p:xfrm>
        <a:graphic>
          <a:graphicData uri="http://schemas.openxmlformats.org/drawingml/2006/table">
            <a:tbl>
              <a:tblPr/>
              <a:tblGrid>
                <a:gridCol w="2313000"/>
                <a:gridCol w="2563560"/>
                <a:gridCol w="358164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ère a grond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enfa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other scolded the chil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enfa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upportabl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hild was unbear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ère a grondé l’enfa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i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upport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other scolded the child who was unbearab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81" descr="p101"/>
          <p:cNvPicPr/>
          <p:nvPr/>
        </p:nvPicPr>
        <p:blipFill>
          <a:blip r:embed="rId1"/>
          <a:stretch/>
        </p:blipFill>
        <p:spPr>
          <a:xfrm>
            <a:off x="2209680" y="3683160"/>
            <a:ext cx="609840" cy="14475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5"/>
          <p:cNvGrpSpPr/>
          <p:nvPr/>
        </p:nvGrpSpPr>
        <p:grpSpPr>
          <a:xfrm>
            <a:off x="7848360" y="3428640"/>
            <a:ext cx="609480" cy="304920"/>
            <a:chOff x="7848360" y="3428640"/>
            <a:chExt cx="609480" cy="304920"/>
          </a:xfrm>
        </p:grpSpPr>
        <p:sp>
          <p:nvSpPr>
            <p:cNvPr id="64" name="Line 36"/>
            <p:cNvSpPr/>
            <p:nvPr/>
          </p:nvSpPr>
          <p:spPr>
            <a:xfrm flipV="1">
              <a:off x="8445240" y="3428640"/>
              <a:ext cx="12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7"/>
            <p:cNvSpPr/>
            <p:nvPr/>
          </p:nvSpPr>
          <p:spPr>
            <a:xfrm flipH="1">
              <a:off x="7848360" y="342900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8"/>
            <p:cNvSpPr/>
            <p:nvPr/>
          </p:nvSpPr>
          <p:spPr>
            <a:xfrm>
              <a:off x="7848720" y="34290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81" descr="p101"/>
          <p:cNvPicPr/>
          <p:nvPr/>
        </p:nvPicPr>
        <p:blipFill>
          <a:blip r:embed="rId2"/>
          <a:stretch/>
        </p:blipFill>
        <p:spPr>
          <a:xfrm>
            <a:off x="4495680" y="3657600"/>
            <a:ext cx="609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A571B0AE-67C0-4E5C-8C42-DA16EA86C6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a direc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2700360"/>
          <a:ext cx="8153280" cy="2108160"/>
        </p:xfrm>
        <a:graphic>
          <a:graphicData uri="http://schemas.openxmlformats.org/drawingml/2006/table">
            <a:tbl>
              <a:tblPr/>
              <a:tblGrid>
                <a:gridCol w="2133360"/>
                <a:gridCol w="2667240"/>
                <a:gridCol w="335268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almon       is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ai trouv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found the salmo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saum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ai trouv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salmon that I foun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 excell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81" descr="p101"/>
          <p:cNvPicPr/>
          <p:nvPr/>
        </p:nvPicPr>
        <p:blipFill>
          <a:blip r:embed="rId1"/>
          <a:stretch/>
        </p:blipFill>
        <p:spPr>
          <a:xfrm>
            <a:off x="2133720" y="2725560"/>
            <a:ext cx="60948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1" descr="p101"/>
          <p:cNvPicPr/>
          <p:nvPr/>
        </p:nvPicPr>
        <p:blipFill>
          <a:blip r:embed="rId2"/>
          <a:stretch/>
        </p:blipFill>
        <p:spPr>
          <a:xfrm>
            <a:off x="4876920" y="2700360"/>
            <a:ext cx="609480" cy="14479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6"/>
          <p:cNvGrpSpPr/>
          <p:nvPr/>
        </p:nvGrpSpPr>
        <p:grpSpPr>
          <a:xfrm>
            <a:off x="6157440" y="2514240"/>
            <a:ext cx="852480" cy="304920"/>
            <a:chOff x="6157440" y="2514240"/>
            <a:chExt cx="852480" cy="304920"/>
          </a:xfrm>
        </p:grpSpPr>
        <p:sp>
          <p:nvSpPr>
            <p:cNvPr id="76" name="Line 8"/>
            <p:cNvSpPr/>
            <p:nvPr/>
          </p:nvSpPr>
          <p:spPr>
            <a:xfrm flipV="1">
              <a:off x="6991920" y="2514240"/>
              <a:ext cx="180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 flipH="1">
              <a:off x="6157440" y="2514600"/>
              <a:ext cx="85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6157800" y="25146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ADC7192F-D7E5-420C-8C8F-C65D1F0DA7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23960" y="1571760"/>
          <a:ext cx="7696080" cy="25509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179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1330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nglish, relative pronouns can sometimes be omitted. Relative pronouns cannot be omitted in French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parent que j’ai perdu récemment était mon arrière-grand-père.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elative (whom) I lost is was my great-grand-fathe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5AC75B3E-2504-4115-A0A0-97EF53929F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st participle that follows 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s in gender and number with its antece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09480" y="269568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a tart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qu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u as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ai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était délicieu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The pie that you made was deliciou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CE1ED519-EDE1-4E1B-A65D-9EB53E3953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tand for a place or a tim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t ca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2768760"/>
          <a:ext cx="8076960" cy="251460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’est un supérett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peut trouver des produits biologiqu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a min-market where you can find organic foo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phone-moi au mom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re nièce arr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 me the moment that (when) our niece arriv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3" name="Group 23"/>
          <p:cNvGrpSpPr/>
          <p:nvPr/>
        </p:nvGrpSpPr>
        <p:grpSpPr>
          <a:xfrm>
            <a:off x="1980720" y="2514240"/>
            <a:ext cx="914040" cy="304920"/>
            <a:chOff x="1980720" y="2514240"/>
            <a:chExt cx="914040" cy="304920"/>
          </a:xfrm>
        </p:grpSpPr>
        <p:sp>
          <p:nvSpPr>
            <p:cNvPr id="94" name="Line 24"/>
            <p:cNvSpPr/>
            <p:nvPr/>
          </p:nvSpPr>
          <p:spPr>
            <a:xfrm flipV="1">
              <a:off x="2875680" y="2514240"/>
              <a:ext cx="1908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H="1">
              <a:off x="1980720" y="251460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1981080" y="251460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3200040" y="3733560"/>
            <a:ext cx="609480" cy="304920"/>
            <a:chOff x="3200040" y="3733560"/>
            <a:chExt cx="609480" cy="304920"/>
          </a:xfrm>
        </p:grpSpPr>
        <p:sp>
          <p:nvSpPr>
            <p:cNvPr id="98" name="Line 5"/>
            <p:cNvSpPr/>
            <p:nvPr/>
          </p:nvSpPr>
          <p:spPr>
            <a:xfrm flipV="1">
              <a:off x="3796920" y="3733560"/>
              <a:ext cx="12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6"/>
            <p:cNvSpPr/>
            <p:nvPr/>
          </p:nvSpPr>
          <p:spPr>
            <a:xfrm flipH="1">
              <a:off x="3200040" y="37339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3200400" y="37339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A5424B97-9A36-4054-A05A-F60A71F5F3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prono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an object of 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320" y="2921040"/>
          <a:ext cx="8991360" cy="2108160"/>
        </p:xfrm>
        <a:graphic>
          <a:graphicData uri="http://schemas.openxmlformats.org/drawingml/2006/table">
            <a:tbl>
              <a:tblPr/>
              <a:tblGrid>
                <a:gridCol w="2144520"/>
                <a:gridCol w="2884680"/>
                <a:gridCol w="396216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est allés à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hypermarch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ent to the supermarke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t’ai parl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’hypermarch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talked to you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the supermarke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est allés à l’hypermarché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t’ai parl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ent to the supermarket (that)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talked to you abou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81" descr="p101"/>
          <p:cNvPicPr/>
          <p:nvPr/>
        </p:nvPicPr>
        <p:blipFill>
          <a:blip r:embed="rId1"/>
          <a:stretch/>
        </p:blipFill>
        <p:spPr>
          <a:xfrm>
            <a:off x="4648320" y="2921040"/>
            <a:ext cx="60948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1" descr="p101"/>
          <p:cNvPicPr/>
          <p:nvPr/>
        </p:nvPicPr>
        <p:blipFill>
          <a:blip r:embed="rId2"/>
          <a:stretch/>
        </p:blipFill>
        <p:spPr>
          <a:xfrm>
            <a:off x="1752480" y="2946240"/>
            <a:ext cx="60984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7"/>
          <p:cNvGrpSpPr/>
          <p:nvPr/>
        </p:nvGrpSpPr>
        <p:grpSpPr>
          <a:xfrm>
            <a:off x="7756560" y="2666520"/>
            <a:ext cx="761760" cy="304920"/>
            <a:chOff x="7756560" y="2666520"/>
            <a:chExt cx="761760" cy="304920"/>
          </a:xfrm>
        </p:grpSpPr>
        <p:sp>
          <p:nvSpPr>
            <p:cNvPr id="109" name="Line 8"/>
            <p:cNvSpPr/>
            <p:nvPr/>
          </p:nvSpPr>
          <p:spPr>
            <a:xfrm flipV="1">
              <a:off x="8502120" y="2666520"/>
              <a:ext cx="1584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 flipH="1">
              <a:off x="7756560" y="266688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7756560" y="266688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-</a:t>
            </a:r>
            <a:fld id="{62BB1F21-5709-423D-A3A7-9B588DE723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Relative pronou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80880" y="1523880"/>
            <a:ext cx="83822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preposi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ndicate possessio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2616120"/>
          <a:ext cx="7086600" cy="279396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279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enfant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le père est autoritaire sont souvent puni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children, whose father is strict, are often punishe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2-13T14:45:52Z</dcterms:modified>
  <cp:revision>171</cp:revision>
  <dc:subject>D'accord! 3 • D'accord! 3 • Leçon 6: Les générations qui bougent</dc:subject>
  <dc:title>6.2 Demonstrative pronouns</dc:title>
</cp:coreProperties>
</file>